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601-AAE6-43C4-9186-C6BE7FE1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692-F59A-4F68-9C25-1154874D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BB3-F3C3-4DE5-8485-7DB065BC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C12-57F2-4656-95B2-53229BF1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FBF7-1398-4E1C-816A-3C7A82ED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DCB9-7CE5-47E9-B1A8-9354580D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91A3-E96D-4E03-945D-C61A71F8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F47A-87CD-48DD-AFA7-69E917C8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D6E8-C4C5-4B00-8044-3C3DF29B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244F-F304-4C80-BA22-125D7D21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E8AE-958A-4663-BA01-FC225643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96C-D6DC-4231-80D4-71AB3EE0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FF4-5852-466C-9ED4-E8B8338E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5974-F39F-4D2B-A42A-329D7B9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22AD-2B6D-4F3B-8CE3-895DC7A8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B594-3FB3-4F28-839F-D141854B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859A-DA0B-4F16-8D30-DEA3E3E0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9AB-6949-41E3-897C-7C75AAD5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1B8-5BAC-4803-9001-31518D3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04B-015F-4E87-AB80-DB35D0C9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97C-8997-46A7-B746-9A68A328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277-766E-4722-B02B-C2487241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64C-F8B7-4355-A0F8-0187B50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B18-61A3-454B-8F60-75743736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D83E-5672-4655-9E13-6593A9F2AB3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3276-3DBB-4081-AE9E-D9CD08DF07E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Picture 5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7ED0-9BC5-4940-843C-4A753F12495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056D-997F-45F3-8537-37A2B712DA88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077320" cy="6248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76320" y="5317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Context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: Vous êtes au supermarché et vous faites les coures pour votre mère qui est trop occupée. Elle vous a donné la liste suivante mais malheureusement certains aliments ne sont pas disponibles (available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Tâche :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ocher (</a:t>
            </a:r>
            <a:r>
              <a:rPr b="0" lang="fr-FR" sz="1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✔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) les aliments que vous voyez dans l’image et que vous pouvez ache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cp:lastPrinted>2013-11-26T11:15:57Z</cp:lastPrinted>
  <dcterms:modified xsi:type="dcterms:W3CDTF">2013-12-04T14:37:32Z</dcterms:modified>
  <cp:revision>98</cp:revision>
  <dc:subject/>
  <dc:title>Allez, viens! – Level 2</dc:title>
</cp:coreProperties>
</file>